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73C2-F519-4AAF-A85D-94D34F1D0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6D25-5F7B-4A8C-8AF1-09D2B33B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BC88-AE22-4F09-86AB-9E0F2F145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D2D4-ED7B-4922-AC2C-A837FCB89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6E6F-7C07-4659-A9A6-B211E26CA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57F1-AF87-4332-9581-E4C46A72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A0BE-EC3E-4930-842F-B99C3057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968A-70CD-4E3C-9A6B-6DA5CFD7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B8B7-1CE4-4106-B5D0-1B4C6B2F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7A35-733A-4D45-9644-5F688194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EE43-5301-4119-AB50-1F3A67BC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83C2-FBE0-47F0-982B-6518684C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6F10-96D6-40C3-A185-777330AB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6226-C845-49CE-B963-AE8F0348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AB3B-7CFB-45D9-B451-3BE0944E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BB83-9806-48F6-A113-C2D2A8BF7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E28C-6526-4B7A-94F7-A93D7A1A9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EC420-7EFE-4036-A8FA-59EFE804D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0F1B8-D4AA-44EA-88A4-328D400A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A6289-DE70-4F26-BAD7-B8FDB632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DF4E1-EEA9-467C-8734-49D74F1E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E4D31-6A93-49DA-8D4A-1F97F7E2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6B4D-0361-4E95-830C-EC74D635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B7B83-18D3-4AC1-B91F-E455043A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D21F7-75E1-46FA-98A8-CD69C613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0F30E-CA1E-4CFA-BA7C-50DC2DEE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581EC-FE14-4CC8-83AF-6BBD1707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64E86-B5BF-4355-A811-3F8BAB73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21716-51F0-4259-9BEE-6F168D8EB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50356-BC51-4395-9CAF-E68DD0076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FF40-7753-41B5-8CA0-DABBCF37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7460-A548-44A8-95F5-C3DE8AA7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A91A-FDD5-487C-9283-3904E9F6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122B-919E-4AB9-8537-1E9C1049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4858-3798-4CBE-AACF-B39EC5FB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B4F7-0FE9-46F1-9E50-8233BF92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D45F-7000-400E-9A78-B2BB48141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8FC3-9984-4841-A2CF-5E11195274E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1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1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018C-5964-45C1-83E2-EC0D50F8836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SU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ŞI OCEANUL IND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220968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Geografie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 rot="20846400">
            <a:off x="914400" y="1447560"/>
            <a:ext cx="7238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High Tower Text"/>
              </a:rPr>
              <a:t>Sesiunea iunie-iulie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High Tower Text"/>
              <a:ea typeface="High Tower Tex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Arial Black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ffffff"/>
                </a:solidFill>
                <a:latin typeface="Arial Black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ffffff"/>
                </a:solidFill>
                <a:latin typeface="Arial Black"/>
                <a:ea typeface="Arial"/>
              </a:rPr>
              <a:t> – document de lucru</a:t>
            </a: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572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13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Asia de Sud se află în partea meridională a continentului. Are în egală măsură limite marine, în sud, unde este scăldată de apele Oceanului Indian, şi terestre, în rest, fiind mărginită de alte regiuni asiatice. Cuprinde o parte continentală, o mare peninsulă (Peninsula Indiană), o insulă mai întinsă (Ceylon) şi câteva arhipeleaguri (Maldive, Andaman, Nicobare).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113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În ansamblu</a:t>
            </a:r>
            <a:r>
              <a:rPr b="0" lang="en-GB" sz="1200" spc="-1" strike="noStrike">
                <a:solidFill>
                  <a:srgbClr val="ffcc00"/>
                </a:solidFill>
                <a:latin typeface="Arial Black"/>
              </a:rPr>
              <a:t>,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 Asia de Sud este o regiune de platouri şi munţi înalţi. Platouri există îndeosebi în partea sudică [...]. În schimb</a:t>
            </a:r>
            <a:r>
              <a:rPr b="0" lang="en-GB" sz="1200" spc="-1" strike="noStrike">
                <a:solidFill>
                  <a:srgbClr val="ffcc00"/>
                </a:solidFill>
                <a:latin typeface="Arial Black"/>
              </a:rPr>
              <a:t>,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 munţii se desfăşoară în partea nordică, unde formează cel mai înalt şi mai masiv lanţ muntos de pe glob: Hindu Kush – Karakorum – Himalaya. În acest lanţ muntos sunt concentrate toate cele opt vârfuri de peste 8000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m de pe glob, inclusiv cel mai înalt pisc: Chomolungma, cu 8848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m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113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În acestă regiune există şi câmpii, fără să egaleze</a:t>
            </a:r>
            <a:r>
              <a:rPr b="0" lang="en-GB" sz="1200" spc="-1" strike="noStrike">
                <a:solidFill>
                  <a:srgbClr val="ffcc00"/>
                </a:solidFill>
                <a:latin typeface="Arial Black"/>
              </a:rPr>
              <a:t>,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 însă</a:t>
            </a:r>
            <a:r>
              <a:rPr b="0" lang="en-GB" sz="1200" spc="-1" strike="noStrike">
                <a:solidFill>
                  <a:srgbClr val="ffcc00"/>
                </a:solidFill>
                <a:latin typeface="Arial Black"/>
              </a:rPr>
              <a:t>,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 dimensiunile platourilor şi ale munţilor. Face excepţie Câmpia Indo–Gangetică, una dintre cele mai întinse de pe glob: se desfăşoară pe circa 2000 km lungime şi pe câteva sute de kilometri lăţime. Este o câmpie joasă şi fertilă, udată de fluviile Indus, Gange şi Brahmaputra, care sunt cele mai mari din regiune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113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Asia de Sud este una dintre cele mai populate regiuni ale continentului şi</a:t>
            </a:r>
            <a:r>
              <a:rPr b="0" lang="en-GB" sz="1200" spc="-1" strike="noStrike">
                <a:solidFill>
                  <a:srgbClr val="ffcc00"/>
                </a:solidFill>
                <a:latin typeface="Arial Black"/>
              </a:rPr>
              <a:t>,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 totodată</a:t>
            </a:r>
            <a:r>
              <a:rPr b="0" lang="en-GB" sz="1200" spc="-1" strike="noStrike">
                <a:solidFill>
                  <a:srgbClr val="ffcc00"/>
                </a:solidFill>
                <a:latin typeface="Arial Black"/>
              </a:rPr>
              <a:t>,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 de pe întreaga planetă: concentrează mai mult de o treime din populaţia Asiei. Totuşi</a:t>
            </a:r>
            <a:r>
              <a:rPr b="0" lang="en-GB" sz="1200" spc="-1" strike="noStrike">
                <a:solidFill>
                  <a:srgbClr val="ffcc00"/>
                </a:solidFill>
                <a:latin typeface="Arial Black"/>
              </a:rPr>
              <a:t>,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 în Asia de Sud</a:t>
            </a:r>
            <a:r>
              <a:rPr b="0" lang="en-GB" sz="1200" spc="-1" strike="noStrike">
                <a:solidFill>
                  <a:srgbClr val="ffcc00"/>
                </a:solidFill>
                <a:latin typeface="Arial Black"/>
              </a:rPr>
              <a:t>,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 se întâlnesc mai puţine populaţii decât în alte regiuni ale continentului, între care: indieni, pakistanezi, bengalezi, afghani, nepalezi, singhalezi.[…]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113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Oceanul Indian, cu cei 73,4 milioane km</a:t>
            </a:r>
            <a:r>
              <a:rPr b="0" lang="ro-RO" sz="1200" spc="-1" strike="noStrike" baseline="30000">
                <a:solidFill>
                  <a:srgbClr val="ffcc00"/>
                </a:solidFill>
                <a:latin typeface="Arial Black"/>
              </a:rPr>
              <a:t>2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 ai săi, este al treilea ca întindere între oceanele planet</a:t>
            </a:r>
            <a:r>
              <a:rPr b="0" lang="en-GB" sz="1200" spc="-1" strike="noStrike">
                <a:solidFill>
                  <a:srgbClr val="ffcc00"/>
                </a:solidFill>
                <a:latin typeface="Arial Black"/>
              </a:rPr>
              <a:t>ei</a:t>
            </a:r>
            <a:r>
              <a:rPr b="0" lang="ro-RO" sz="1200" spc="-1" strike="noStrike">
                <a:solidFill>
                  <a:srgbClr val="ffcc00"/>
                </a:solidFill>
                <a:latin typeface="Arial Black"/>
              </a:rPr>
              <a:t>, fiind delimitat de patru continente: Africa (în vest), Asia (în nord), Australia (în est) şi Antartica (în sud). Spre deosebire de oceanele Pacific şi Atlantic, se desfăşoară în cea mare parte în emisfera sudică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7" name="Picture 13" descr="comp_i"/>
          <p:cNvPicPr/>
          <p:nvPr/>
        </p:nvPicPr>
        <p:blipFill>
          <a:blip r:embed="rId1"/>
          <a:stretch/>
        </p:blipFill>
        <p:spPr>
          <a:xfrm>
            <a:off x="5257800" y="1905120"/>
            <a:ext cx="323856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spundeţi la următoarele întreb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rmăriţi harta şi tabelul ţărilor din Asia de Sud şi notaţi în cai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insul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fără ieşire la m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ara cea mai populat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regiunea Asia de Sud prin trei elemente specif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ef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rse ale subsolulu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nalizaţi harta Oceanului Indian şi numiţ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aralelele importante care-l traverseaz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zonele climatice în care se desfăşoară suprafaţa ocean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alele insu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nţul muntos submar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b3s11</cp:lastModifiedBy>
  <dcterms:modified xsi:type="dcterms:W3CDTF">2012-06-18T11:11:56Z</dcterms:modified>
  <cp:revision>39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